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4A6-F77C-4CCA-B85C-C6598067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013-6F1D-4AD2-ADF7-E2C011E5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A70-A70A-493C-898E-2D7A39AE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A8A-B79F-4328-8C06-64B701E0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3AF3-DD01-46B1-8BA9-0A8A1113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7E07-81BD-4C0A-8582-1DFFBC3B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A7C0-4BDB-4057-8368-29A54DE9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58E1-BA12-48D4-B223-703459F8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3522-E543-480C-8A84-D6D425BE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A7A6-CAA6-4E2D-98C7-B1F1F7FD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90C3-D00E-47BC-A51F-A8608D9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623-F34C-44B3-9B43-5C23DDA1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B5AF-6F69-4EE4-B47A-9563C3FF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67D2-B38C-4EBF-BD7A-EA303A45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981B-54CF-435A-A563-CAA5019C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18DE-A84E-44B2-AC5C-9F217322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4D80-09EB-4FE1-BBE9-C166C7A4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4FA-506D-42CF-96EB-A7268F82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19C-6440-4FE0-8BC9-497C1002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279-F20C-4FBA-A4E7-D42A9E1D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84E-8DBE-4E31-AD3B-262A2BFE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42C-DF9B-44F3-A1CA-C5D8AB26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DED-0E3A-4610-822D-D78A4DC9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472-C992-45EE-AEA6-1D4AB197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08A5-DD28-48C6-8A50-C8B23E270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2239-8BC2-4CF7-B4E0-C82A7550F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678168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Till There Was No Remedy</a:t>
            </a:r>
            <a:br>
              <a:rPr sz="48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ivided Kingdom – 2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7, Lesson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131-1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Kings 20; Isa. 38-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The Last Les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ssyrians Have Destroyed Everything In Their Path Toward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Judah’s King, Hezekiah, Has Leaned Upon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5,000 Assyrians S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nacherib is slain by two of his 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rhaddon, another son, takes the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thing room for Judah for a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Sickness of Hezekia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Sickness and sentence of death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Kgs. 20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supplication and extension of 15 yrs. 2 Kgs.20:2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gn of the Sundial. 8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nful Stewardship: Showing the Babylonians his treasures – 12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 Interesting Prophe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usalem will be “rebuilt” – Isa.44:24-45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ication that it would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, by Isaiah, even names the king that God would use to accomplish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 years before it came to p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before there was a “Cyru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God is an Awesome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ath of Hezekia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 an honorable man – 2 Kgs.20:20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later generations would suffer because of Hezekiah’s mis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bylonians would come back and take the Judeans captive to Baby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ss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you do if you knew you had only 15 years of life? 10? 5? 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our children, grandchildren suffer if we are not on guard for the enemy of our souls to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20:25:36Z</dcterms:created>
  <dc:creator>Terry W. Benton</dc:creator>
  <dc:description/>
  <dc:language>en-US</dc:language>
  <cp:lastModifiedBy>Frank D Vines</cp:lastModifiedBy>
  <dcterms:modified xsi:type="dcterms:W3CDTF">2006-02-22T05:17:55Z</dcterms:modified>
  <cp:revision>3</cp:revision>
  <dc:subject/>
  <dc:title>Till There Was No Remedy Divided Kingdom – 2 </dc:title>
</cp:coreProperties>
</file>